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EE3C-C6BC-421B-9FBE-0E0183BB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EA10-261A-4F36-9399-5ED58D80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2620-CE8B-47CE-93B7-94172AA9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4383-471A-402D-9AEF-1E3F8003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E0E3-57E9-490A-9087-168CD1EC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DA19-E28D-48AE-A4D8-01381F7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6ED1-20D0-4A1C-A71C-304957EF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19F7-3450-4D2A-8A22-385977BD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DA21-8B90-42F0-883A-01B28CA3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F15F-0EA9-4C75-8B31-9989130D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A488-377B-4D34-B942-9B7E4D5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8B51-C35F-4C1B-9944-2CD7B21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6AF9-56AE-4230-A2FB-DC413676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1C0A-EC9C-440B-9FBA-95B08B1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9627-3B20-4FF3-9AC6-B370CD2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5D1B-95BE-4E5F-A9B6-CEF84309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6042-F15B-498F-BE28-19A589A9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057A8-BB35-4466-93F0-94FEC949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37AE-2AAE-425A-B364-99923EBF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914E-F157-4468-B796-129D863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9B99-CA9A-46CC-B5F1-AD300D4A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B854-DD8E-478F-A9F5-5F5F2EA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FAC7-777E-4FFA-A531-5AD06950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0E18-C053-4F55-8740-FAA47FF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06FE-9EE4-41F5-9D75-B3A5867C55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2902-F787-4573-99C2-81F36B6454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Как вырастить лягушку?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ddd"/>
                </a:solidFill>
                <a:latin typeface="Garamond"/>
              </a:rPr>
              <a:t>Яворская Татья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еница 3 класс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НОШ № 5 г. Шимановс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Литератур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Журнал «Юннатский вестник» . выпуск № 3 (17) 2000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. Популярная энциклопедия. Сост.: Ю.И. Смирнов.-СПб.: «МиМ - Экспресс», 1997- 352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. Суматохин С.В., Кучменко В.С. биология.Животные:Сборник заданий и задач с ответами. Пособие для учащихся основной школы .- М.: Мнемозина, 200 .- 206 с.:и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Энциклопедия для детей. Т. 2. Биология.- 5-е изд., перераб и доп /  Глав.ред. М.Д. Аксёнова; вед.науч.ред. Г.Е.Вильчек.-М.: Аванта +, 2003 -704с.: и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План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ВЕДЕНИЕ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ОСНОВНАЯ ЧАСТЬ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ЛИТЕРАТУРА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Введение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огда я была маленькой, я считала, что головастик и лягушка это разные существа, но оказалось, я была неправа. Мне очень хотелось увидеть процесс превращения икринки в лягушку, поэтому я выбрала эту тему  исследова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ЦЕЛЬ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обосновать,  когда возможен метаморфоз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ыявить влияет ли свет на развитие лягушек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пределить влияет ли состав  пищи на развитие головастик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анализировать среду обитания головасти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Основная часть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Урчание - примета, что  у лягушек началось икрометание. До 4 тысяч икринок откладывает травяная лягушка. Икра крупная и прозрачная. Отдельная икринка - шарик с черной точкой внутр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роходит 15-20 дней оболочка икринки лопается, и появляется крохотный головастик. В первые дни головастик больше похож на рыбку. Этот головастик - рыбка мало плавает. Выйдя из икринки, он прицепляется к какому- либо водному растению и висит на нём. На нижней стороне головы есть две присоски, при их помощи головастик присасывается к растению. По бокам головы головастика видны, словно два нежных пучочка. Это жабры, ими головастик дышит.  Головастик висит на растение. Он не плавает, и он ничего не ест в эти дни. Да ему и есть нечем – рта ещё нет. Только через несколько дней появляется поперечная щёлка – ро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оявился рот – можно есть. Головастик отцепляется от растения и начинает плавать. Своими роговыми челюстями, похожими на клюв, он скоблит поверхность водяных растений. Если такого головастика посадить в аквариум с зазеленевшими от водорослей стеклами, он быстро вычистит их, соскоблив всю тину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устики жабер понемногу становятся короче и короче, и наконец наружные жабры исчезают. Вместо них по бокам головы прорезаются жаберные щели, похожие на рыбьи.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Головастик бойко плавает, ест и растет. Он не только растёт - он продолжается изменяться. Около того места, где от туловища отходит хвост, появляются два бугорка. Бугорки увеличиваются - растут ног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онемногу зарастают жаберные щели. Головастик начинает дышать лёгкими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Головастик всё чаще всплывает на поверхность воды и дышит наружным воздухом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аконец появляются зачатки передних ног. Задние ноги выросли уже большие, теперь головастик плавает с их помощью. Хвост становится всё меньше и меньше. Головастик становится больше похожим на лягушку, которая выползает на берег.   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Развитие заканчивается в 50 дней, а иногда до 3 месяцев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27 июня 2005 год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ловила головастиков в озере на 10 км  трассы Шимановск - Воскресеновка. И провела несколько опы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03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Опыт №1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ложила в два сосуда головастиков. Один сосуд держала на свету, другой - в темнот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ЫВОД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: на свету развитие идет быстре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96760" y="2449440"/>
          <a:ext cx="621216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2449440"/>
                    <a:ext cx="62121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Опыт №2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зяла два сосуда, поместила головастиков одинаковой длины. В одном - кормила только растительной пищей, в другом - животной ( использовали мясо,  крутой яичный белок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3030480" cy="2265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4720" y="2708280"/>
          <a:ext cx="3886200" cy="24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2708280"/>
                    <a:ext cx="388620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36800" y="5373000"/>
            <a:ext cx="87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ВЫВОД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: головастик, питающийся животной пищей развивается быстр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Опыт №3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местила головастика из мутной среды в чистую , головастик поги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3527640" cy="2658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1680" y="5660280"/>
            <a:ext cx="80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ВЫВОД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резкая смена среды приводит к гибели живых организ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блюдая за превращением головастика в лягушку,  я узнала, что метаморфоз возможен. А условия, в которых происходит метаморфоз, влияют на скорость развития головастиков. В экстремальных условиях головастик погиба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34:15Z</dcterms:created>
  <dc:creator>сш5</dc:creator>
  <dc:description/>
  <dc:language>en-US</dc:language>
  <cp:lastModifiedBy>сш5</cp:lastModifiedBy>
  <dcterms:modified xsi:type="dcterms:W3CDTF">2006-01-31T05:53:43Z</dcterms:modified>
  <cp:revision>3</cp:revision>
  <dc:subject/>
  <dc:title>Как вырастить лягушку?</dc:title>
</cp:coreProperties>
</file>